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54838" cy="9309100"/>
</p:presentation>
</file>

<file path=ppt/commentAuthors.xml><?xml version="1.0" encoding="utf-8"?>
<p:cmAuthorLst xmlns:p="http://schemas.openxmlformats.org/presentationml/2006/main">
  <p:cmAuthor id="0" name="Laura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5-08-31T10:32:29.783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E3A-D352-499E-A957-9B40882C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851-1601-47F8-9E27-08A13800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709-5564-45E1-B041-D0E8C665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B12-F8B2-48AB-9D12-C1296489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834A-98DD-4B69-A23A-49D0B1E5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02B3-912D-473C-AA33-6C18248F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8469-881A-4757-982B-50F3C50C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47AB-F977-48B8-A189-6AE8026E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DFA5-1376-409E-B10F-22072DD4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B2A7-0A50-4506-8504-3E192D2B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0AC5-DFE1-447E-9F56-5F68728D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4F2-49A3-45F7-BBEE-67F1818F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194B-C00D-4F8F-9D26-53D3A616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FBE6-A7D4-43D7-903C-8EFEB1B9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64AB-7152-454D-9547-F7FAEA5E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D22E-9672-4960-9D37-188D608A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8815-1D50-45F7-9BAC-0C2AF798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B96-1406-4E5A-8AE8-B37952AD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DA8-BB11-4AC4-AE62-2EAD6320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2AD-8850-45D5-98EE-12939CF0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453-548A-4BD9-B280-0DE60EB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CEC-A9E1-40F6-AE53-E980D04B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1AE-F1ED-4394-80FB-28B492DD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110-3AD2-4358-961D-07047C4C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8DBE-730B-49D8-9E6F-1E5BECE76C3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D905-0D63-46C7-BB8C-28672F77A3B3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1620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3"/>
          <p:cNvSpPr/>
          <p:nvPr/>
        </p:nvSpPr>
        <p:spPr>
          <a:xfrm>
            <a:off x="7237440" y="644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CC66-7700-4E41-9291-7796EE6D3D7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Rectangle 4" descr=""/>
          <p:cNvPicPr/>
          <p:nvPr/>
        </p:nvPicPr>
        <p:blipFill>
          <a:blip r:embed="rId2"/>
          <a:stretch/>
        </p:blipFill>
        <p:spPr>
          <a:xfrm>
            <a:off x="549360" y="4175280"/>
            <a:ext cx="8405640" cy="1214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6084720" y="5732640"/>
            <a:ext cx="28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Juan J. Permu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CE – UBA - Argent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906480" y="62992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Año 20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50920" y="2455920"/>
            <a:ext cx="870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V CONGRESO INTERNA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de Economía, Administración y Contaduría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Emprendedorismo, sostenibilidad e investigación para una sociedad en desarrollo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5" descr=""/>
          <p:cNvPicPr/>
          <p:nvPr/>
        </p:nvPicPr>
        <p:blipFill>
          <a:blip r:embed="rId3"/>
          <a:stretch/>
        </p:blipFill>
        <p:spPr>
          <a:xfrm>
            <a:off x="1122480" y="0"/>
            <a:ext cx="6762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Tahoma"/>
              </a:rPr>
              <a:t>« Es una experiencia eterna, que todo hombre que tiene poder se inclina a abusar de él…y va hasta donde encuentra limites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(Montesquieu, L´sprit des Lois, 1748, Cap. IV, Libro IX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AF1C-E54E-4A8B-B57B-2039D1C0E62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Rectangle 4" descr=""/>
          <p:cNvPicPr/>
          <p:nvPr/>
        </p:nvPicPr>
        <p:blipFill>
          <a:blip r:embed="rId1"/>
          <a:stretch/>
        </p:blipFill>
        <p:spPr>
          <a:xfrm>
            <a:off x="914400" y="835200"/>
            <a:ext cx="39020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número de diapositiva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6251-4704-47AA-AC82-ED1329B69D1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Imagen 1" descr=""/>
          <p:cNvPicPr/>
          <p:nvPr/>
        </p:nvPicPr>
        <p:blipFill>
          <a:blip r:embed="rId1"/>
          <a:stretch/>
        </p:blipFill>
        <p:spPr>
          <a:xfrm>
            <a:off x="1908000" y="665280"/>
            <a:ext cx="55803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5836-3D77-42EC-B52E-7F7BE4A99E0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Rectangle 4" descr=""/>
          <p:cNvPicPr/>
          <p:nvPr/>
        </p:nvPicPr>
        <p:blipFill>
          <a:blip r:embed="rId1"/>
          <a:stretch/>
        </p:blipFill>
        <p:spPr>
          <a:xfrm>
            <a:off x="1816200" y="2998800"/>
            <a:ext cx="5614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Sistema de Control Externo para el Sector Publico. Derecho Extranjero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28800" y="3789360"/>
            <a:ext cx="206532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odelos Bás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Marcador de número de diapositiva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2727-3929-4BD1-A0F9-2222BC775E3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CuadroTexto 4"/>
          <p:cNvSpPr/>
          <p:nvPr/>
        </p:nvSpPr>
        <p:spPr>
          <a:xfrm>
            <a:off x="2242800" y="25257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UR DE COMPTE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CuadroTexto 5"/>
          <p:cNvSpPr/>
          <p:nvPr/>
        </p:nvSpPr>
        <p:spPr>
          <a:xfrm>
            <a:off x="2299680" y="386064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RTE DEI CONTI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CuadroTexto 6"/>
          <p:cNvSpPr/>
          <p:nvPr/>
        </p:nvSpPr>
        <p:spPr>
          <a:xfrm>
            <a:off x="2327400" y="5197320"/>
            <a:ext cx="21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ODELO ANGLO AMERICANO</a:t>
            </a: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uadroTexto 7"/>
          <p:cNvSpPr/>
          <p:nvPr/>
        </p:nvSpPr>
        <p:spPr>
          <a:xfrm>
            <a:off x="4857840" y="1996920"/>
            <a:ext cx="396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RANCI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apoleón 16 de Septiembre 1807 – Que al igual que  el Consejo de Estado, integran la Administración Publi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uadroTexto 8"/>
          <p:cNvSpPr/>
          <p:nvPr/>
        </p:nvSpPr>
        <p:spPr>
          <a:xfrm>
            <a:off x="4838760" y="3559320"/>
            <a:ext cx="397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TALI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unciones Jurisdicc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milares tribunales de Justi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ndependencia del Poder Administrador y Poder Legisla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CuadroTexto 10"/>
          <p:cNvSpPr/>
          <p:nvPr/>
        </p:nvSpPr>
        <p:spPr>
          <a:xfrm>
            <a:off x="4857840" y="5297400"/>
            <a:ext cx="41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ntralor General, 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uditor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penden de las Cámaras del Congre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5" name="Conector recto de flecha 12"/>
          <p:cNvCxnSpPr>
            <a:stCxn id="117" idx="3"/>
            <a:endCxn id="119" idx="1"/>
          </p:cNvCxnSpPr>
          <p:nvPr/>
        </p:nvCxnSpPr>
        <p:spPr>
          <a:xfrm flipV="1">
            <a:off x="2036880" y="2709000"/>
            <a:ext cx="227520" cy="13359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6" name="Conector recto de flecha 14"/>
          <p:cNvCxnSpPr>
            <a:stCxn id="117" idx="3"/>
          </p:cNvCxnSpPr>
          <p:nvPr/>
        </p:nvCxnSpPr>
        <p:spPr>
          <a:xfrm>
            <a:off x="2036520" y="4044600"/>
            <a:ext cx="448200" cy="11527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" name="Conector recto de flecha 19"/>
          <p:cNvCxnSpPr/>
          <p:nvPr/>
        </p:nvCxnSpPr>
        <p:spPr>
          <a:xfrm>
            <a:off x="2036880" y="4044600"/>
            <a:ext cx="2577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ED72-2697-46F3-B7A7-937B0CF9C8F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Diagram 4" descr=""/>
          <p:cNvPicPr/>
          <p:nvPr/>
        </p:nvPicPr>
        <p:blipFill>
          <a:blip r:embed="rId1"/>
          <a:stretch/>
        </p:blipFill>
        <p:spPr>
          <a:xfrm>
            <a:off x="1889280" y="2120760"/>
            <a:ext cx="5790960" cy="3621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63884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stema de Control Externo para el Sector Publ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24EF-1AA0-44F3-B775-11406B3E8D1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971640" y="549360"/>
            <a:ext cx="7638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olución Histórica del Control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Diagram 6" descr=""/>
          <p:cNvPicPr/>
          <p:nvPr/>
        </p:nvPicPr>
        <p:blipFill>
          <a:blip r:embed="rId1"/>
          <a:stretch/>
        </p:blipFill>
        <p:spPr>
          <a:xfrm>
            <a:off x="560520" y="1371600"/>
            <a:ext cx="8083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Instituciones de Control Externo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705720" y="6381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65C4-11A7-47BC-AC21-0E2B68BA6AD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88800" y="130032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Tahoma"/>
              </a:rPr>
              <a:t>Principales Modelos en el Orden Internacional y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ight Arrow Callout 8"/>
          <p:cNvSpPr/>
          <p:nvPr/>
        </p:nvSpPr>
        <p:spPr>
          <a:xfrm>
            <a:off x="324000" y="2241720"/>
            <a:ext cx="2592360" cy="395280"/>
          </a:xfrm>
          <a:prstGeom prst="rightArrowCallout">
            <a:avLst>
              <a:gd name="adj1" fmla="val 25002"/>
              <a:gd name="adj2" fmla="val 25000"/>
              <a:gd name="adj3" fmla="val 24988"/>
              <a:gd name="adj4" fmla="val 6497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a0aff"/>
                </a:solidFill>
                <a:latin typeface="Tahoma"/>
              </a:rPr>
              <a:t>Mode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ight Arrow Callout 10"/>
          <p:cNvSpPr/>
          <p:nvPr/>
        </p:nvSpPr>
        <p:spPr>
          <a:xfrm>
            <a:off x="324000" y="3645000"/>
            <a:ext cx="2592360" cy="504720"/>
          </a:xfrm>
          <a:prstGeom prst="rightArrowCallout">
            <a:avLst>
              <a:gd name="adj1" fmla="val 25002"/>
              <a:gd name="adj2" fmla="val 25000"/>
              <a:gd name="adj3" fmla="val 25015"/>
              <a:gd name="adj4" fmla="val 6497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a0aff"/>
                </a:solidFill>
                <a:latin typeface="Tahoma"/>
              </a:rPr>
              <a:t>Característ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Flowchart: Process 11"/>
          <p:cNvSpPr/>
          <p:nvPr/>
        </p:nvSpPr>
        <p:spPr>
          <a:xfrm>
            <a:off x="3132000" y="1916280"/>
            <a:ext cx="2303640" cy="93636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Tribunal de Cuentas o Corte de Cuen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lowchart: Process 12"/>
          <p:cNvSpPr/>
          <p:nvPr/>
        </p:nvSpPr>
        <p:spPr>
          <a:xfrm>
            <a:off x="5940360" y="1916280"/>
            <a:ext cx="2303640" cy="93636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Auditoria General o Contraloría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Flowchart: Process 13"/>
          <p:cNvSpPr/>
          <p:nvPr/>
        </p:nvSpPr>
        <p:spPr>
          <a:xfrm>
            <a:off x="3132000" y="3068640"/>
            <a:ext cx="2303640" cy="180036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Funciones Juris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Algunas vec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Funciones Sancionato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Legitimación Proces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Flowchart: Process 14"/>
          <p:cNvSpPr/>
          <p:nvPr/>
        </p:nvSpPr>
        <p:spPr>
          <a:xfrm>
            <a:off x="5940360" y="3068640"/>
            <a:ext cx="2303640" cy="64764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Modelo Angloameric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Down Arrow 16"/>
          <p:cNvSpPr/>
          <p:nvPr/>
        </p:nvSpPr>
        <p:spPr>
          <a:xfrm>
            <a:off x="7020000" y="3716280"/>
            <a:ext cx="144360" cy="217440"/>
          </a:xfrm>
          <a:prstGeom prst="downArrow">
            <a:avLst>
              <a:gd name="adj1" fmla="val 50000"/>
              <a:gd name="adj2" fmla="val 50208"/>
            </a:avLst>
          </a:prstGeom>
          <a:solidFill>
            <a:srgbClr val="66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Flowchart: Process 17"/>
          <p:cNvSpPr/>
          <p:nvPr/>
        </p:nvSpPr>
        <p:spPr>
          <a:xfrm>
            <a:off x="5940360" y="4005360"/>
            <a:ext cx="2303640" cy="86364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Producto Final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Dictámenes e Inform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Down Arrow 18"/>
          <p:cNvSpPr/>
          <p:nvPr/>
        </p:nvSpPr>
        <p:spPr>
          <a:xfrm>
            <a:off x="7020000" y="4869000"/>
            <a:ext cx="144360" cy="215640"/>
          </a:xfrm>
          <a:prstGeom prst="downArrow">
            <a:avLst>
              <a:gd name="adj1" fmla="val 50000"/>
              <a:gd name="adj2" fmla="val 49792"/>
            </a:avLst>
          </a:prstGeom>
          <a:solidFill>
            <a:srgbClr val="66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Down Arrow 19"/>
          <p:cNvSpPr/>
          <p:nvPr/>
        </p:nvSpPr>
        <p:spPr>
          <a:xfrm>
            <a:off x="4211640" y="4869000"/>
            <a:ext cx="144360" cy="215640"/>
          </a:xfrm>
          <a:prstGeom prst="downArrow">
            <a:avLst>
              <a:gd name="adj1" fmla="val 50000"/>
              <a:gd name="adj2" fmla="val 49792"/>
            </a:avLst>
          </a:prstGeom>
          <a:solidFill>
            <a:srgbClr val="66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ounded Rectangle 20"/>
          <p:cNvSpPr/>
          <p:nvPr/>
        </p:nvSpPr>
        <p:spPr>
          <a:xfrm>
            <a:off x="3059280" y="5113440"/>
            <a:ext cx="244944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cd"/>
              </a:gs>
              <a:gs pos="100000">
                <a:srgbClr val="7979bd"/>
              </a:gs>
            </a:gsLst>
            <a:lin ang="5400000"/>
          </a:gradFill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En la Unión Europe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En Europa Continental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Argentina: todas las provincias excepto Sal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ounded Rectangle 21"/>
          <p:cNvSpPr/>
          <p:nvPr/>
        </p:nvSpPr>
        <p:spPr>
          <a:xfrm>
            <a:off x="5867280" y="5113440"/>
            <a:ext cx="24498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cd"/>
              </a:gs>
              <a:gs pos="100000">
                <a:srgbClr val="7979bd"/>
              </a:gs>
            </a:gsLst>
            <a:lin ang="5400000"/>
          </a:gradFill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Estados Unidos (GA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Canadá (OAG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Emiratos Árabes Uni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Reino Unido (NA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Suecia (ON Auditor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SIMAFAL - Argentin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900000" y="476280"/>
            <a:ext cx="7710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Tipos de Audito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Diagram 2" descr=""/>
          <p:cNvPicPr/>
          <p:nvPr/>
        </p:nvPicPr>
        <p:blipFill>
          <a:blip r:embed="rId1"/>
          <a:stretch/>
        </p:blipFill>
        <p:spPr>
          <a:xfrm>
            <a:off x="1676520" y="2103480"/>
            <a:ext cx="61563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00000" y="476280"/>
            <a:ext cx="7710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Auditori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Diagram 2" descr=""/>
          <p:cNvPicPr/>
          <p:nvPr/>
        </p:nvPicPr>
        <p:blipFill>
          <a:blip r:embed="rId1"/>
          <a:stretch/>
        </p:blipFill>
        <p:spPr>
          <a:xfrm>
            <a:off x="500040" y="1828800"/>
            <a:ext cx="83757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3AFF-65F2-43A6-B059-C67E3B05907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95280" y="333360"/>
            <a:ext cx="7710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Configuración del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Diagram 6" descr=""/>
          <p:cNvPicPr/>
          <p:nvPr/>
        </p:nvPicPr>
        <p:blipFill>
          <a:blip r:embed="rId1"/>
          <a:stretch/>
        </p:blipFill>
        <p:spPr>
          <a:xfrm>
            <a:off x="444600" y="1401840"/>
            <a:ext cx="8523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1"/>
          <p:cNvSpPr/>
          <p:nvPr/>
        </p:nvSpPr>
        <p:spPr>
          <a:xfrm>
            <a:off x="1601640" y="2770200"/>
            <a:ext cx="59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La AG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022400" y="6253200"/>
            <a:ext cx="801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Arial"/>
              </a:rPr>
              <a:t>CONVENIOS CON OTRAS EFS: BOLIVIA – BRASIL  - CHILE – COLOMBIA – CUBA – ECUADOR – GUATEMALA – PARAGUAY – PERÚ – PORTUGAL – RUSIA </a:t>
            </a:r>
            <a:r>
              <a:rPr b="1" lang="es-ES" sz="1300" spc="-1" strike="noStrike" u="sng">
                <a:solidFill>
                  <a:srgbClr val="ffffff"/>
                </a:solidFill>
                <a:uFillTx/>
                <a:latin typeface="Arial"/>
              </a:rPr>
              <a:t>–</a:t>
            </a:r>
            <a:r>
              <a:rPr b="1" lang="es-ES" sz="1300" spc="-1" strike="noStrike">
                <a:solidFill>
                  <a:srgbClr val="ffffff"/>
                </a:solidFill>
                <a:latin typeface="Arial"/>
              </a:rPr>
              <a:t>- VENEZUELA</a:t>
            </a:r>
            <a:r>
              <a:rPr b="1" lang="es-ES" sz="13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Diagram 1" descr=""/>
          <p:cNvPicPr/>
          <p:nvPr/>
        </p:nvPicPr>
        <p:blipFill>
          <a:blip r:embed="rId1"/>
          <a:stretch/>
        </p:blipFill>
        <p:spPr>
          <a:xfrm>
            <a:off x="981000" y="1822320"/>
            <a:ext cx="8023320" cy="4267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900000" y="836640"/>
            <a:ext cx="7710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8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UDITORIAS GENERALES – CONTRALORIAS GENERALES – TRIBUNALES DE CUENTAS – Actividades Inter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22:29:33Z</dcterms:created>
  <dc:creator>Gustavo A. Macagno</dc:creator>
  <dc:description/>
  <dc:language>en-US</dc:language>
  <cp:lastModifiedBy>Guru</cp:lastModifiedBy>
  <cp:lastPrinted>2015-09-02T13:03:17Z</cp:lastPrinted>
  <dcterms:modified xsi:type="dcterms:W3CDTF">2015-09-09T13:33:16Z</dcterms:modified>
  <cp:revision>622</cp:revision>
  <dc:subject/>
  <dc:title>El Sistema de  Control Interno  en la Ley 24.156</dc:title>
</cp:coreProperties>
</file>